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E058-E927-4DCA-A2D9-E652AABB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2716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6886-FA6D-47CF-A050-42CCD888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23532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488-879B-4515-9700-CC8B2C9F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1220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9616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1220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9616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63D7-75A3-4CB2-90F4-C3EA8FE9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5689-CD8D-42CF-8F11-BE25A1D7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3C5A-F083-4C5D-A6A5-59AB753A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5832-B8E9-4CDE-BCA4-59DA9E97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F105-EF6A-4E5E-893A-381180ED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CBC6-866F-43BA-A230-5115DA14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763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E5A9-206C-4090-AC73-994F9D78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9AA5-8D0C-4876-A4E9-783CBDDB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A816-0D49-44E4-B4DB-C23658F6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3532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DB63-000F-426F-B85F-DF6AAFC5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CE23-8207-4BB8-AE17-B081ED3F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2716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AEDB-F3CE-4AFE-BE18-1C879F0F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23532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67F9-377A-4A6E-B444-574A368C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1220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9616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21220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19616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09CB-18DC-48C1-A163-703D66B7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44DC-598E-4D2B-850F-37EDC965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FC8-2D2B-4947-958D-5DA1899D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FB8-D159-42A3-9CC6-D0423F75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763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952-1837-404D-B6F3-5D038461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1AE-538B-4F78-90BA-558EAEAF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3532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4C0-2AAB-462C-8A47-2D145798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3DB6-B2E7-4042-9CE4-C912C979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4934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6C84-BDEE-4813-A5CB-56D0A8867B09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35809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4934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EC8E-839C-4AB1-A5E5-D7FF58CA17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35809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4934"/>
                </a:solidFill>
                <a:latin typeface="Arial Black"/>
              </a:rPr>
              <a:t>Review</a:t>
            </a:r>
            <a:endParaRPr b="0" lang="en-US" sz="44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8960" y="4749840"/>
            <a:ext cx="55623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lgebra 2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ptember 6, 2007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4934"/>
                </a:solidFill>
                <a:latin typeface="Arial Black"/>
              </a:rPr>
              <a:t>Exponents</a:t>
            </a:r>
            <a:endParaRPr b="0" lang="en-US" sz="36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s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exponen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xponent indicates the number of facto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=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=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4934"/>
                </a:solidFill>
                <a:latin typeface="Arial Black"/>
              </a:rPr>
              <a:t>Order of operations</a:t>
            </a:r>
            <a:endParaRPr b="0" lang="en-US" sz="36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renthes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ponen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ultiplication/Divis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ddition/Subtrac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4934"/>
                </a:solidFill>
                <a:latin typeface="Arial Black"/>
              </a:rPr>
              <a:t>Objectives</a:t>
            </a: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section is designed for reviewing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raction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gned number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peration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perties of Addition and Multiplic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ponen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der of Operation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4934"/>
                </a:solidFill>
                <a:latin typeface="Arial Black"/>
              </a:rPr>
              <a:t>Equivalent fractions…</a:t>
            </a: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re fractions whose numerator and denominator can be divided by a whole non-zero number so that the two fractions are equal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9/12 is equivalent to ¾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cause (9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÷3)/(12÷3) = ¾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4934"/>
                </a:solidFill>
                <a:latin typeface="Arial Black"/>
              </a:rPr>
              <a:t>Simplifying fractions</a:t>
            </a: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o simplify fractions, either: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divide the numerator and the denominator  until they cannot be divided any further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20/330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220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÷11)/(330÷11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0/30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20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÷10)/(30÷10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/3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conduct a prime factorization and cancel out numbers which appear in both the numerator and the denominator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20/330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11*5*2)/(11*5*3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/3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4934"/>
                </a:solidFill>
                <a:latin typeface="Arial Black"/>
              </a:rPr>
              <a:t>Multiplying fractions</a:t>
            </a: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ultiply straight across the top and straight across the bottom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mplify the resulting frac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¾ * 1/12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0/33 * 3/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4934"/>
                </a:solidFill>
                <a:latin typeface="Arial Black"/>
              </a:rPr>
              <a:t>Dividing fractions</a:t>
            </a: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vert the divisor (the second fraction) and multipl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mplify where possib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/3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÷ ½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7/10 ÷ 7/3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4934"/>
                </a:solidFill>
                <a:latin typeface="Arial Black"/>
              </a:rPr>
              <a:t>Adding and subtracting fractions</a:t>
            </a: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ou need to have a common denominator to add or subtract fractio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o get a common denominator, multiply the numerator and the denominator in order to get a common denominato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½ + 1/3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/7 + 1/4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4934"/>
                </a:solidFill>
                <a:latin typeface="Arial Black"/>
              </a:rPr>
              <a:t>Signed numbers</a:t>
            </a:r>
            <a:endParaRPr b="0" lang="en-US" sz="36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pposites: numbers that are the same distance from zero on the number li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bsolute value: the distance between the number and zero; this is always posit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egers: whole numbe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4934"/>
                </a:solidFill>
                <a:latin typeface="Arial Black"/>
              </a:rPr>
              <a:t>Properties of Addition and Multiplication</a:t>
            </a:r>
            <a:endParaRPr b="0" lang="en-US" sz="28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5715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mutative prop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+b = b+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*b=b*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ssociative prop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+(b+c)= (a+b)+c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*(b*c)= (a*b)*c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tributive Prop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(b+c)=ab+ac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21:22:46Z</dcterms:created>
  <dc:creator>nuhs</dc:creator>
  <dc:description/>
  <dc:language>en-US</dc:language>
  <cp:lastModifiedBy>nuhs</cp:lastModifiedBy>
  <dcterms:modified xsi:type="dcterms:W3CDTF">2007-09-06T17:55:21Z</dcterms:modified>
  <cp:revision>5</cp:revision>
  <dc:subject/>
  <dc:title>Review</dc:title>
</cp:coreProperties>
</file>